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5A4-4A76-432A-A552-9F65DF4724D1}" type="slidenum"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Refer to the American College of Surgeons “Gold Book” for exact designations and criteria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Level III </a:t>
            </a:r>
            <a:r>
              <a:rPr b="0" lang="en-US" sz="1200" spc="-1" strike="noStrike">
                <a:solidFill>
                  <a:srgbClr val="000000"/>
                </a:solidFill>
                <a:latin typeface="Calisto MT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 The ACS requires that surgical specialists be available to be called in within one hour from trauma team activation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Neurocenters – Spinal surgeo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Burn Centers – Plastic surgery availab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Prevalence and significance of trauma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Components of trauma system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Characteristics of community, area, and regional trauma centers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Trauma triage criteria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Golden hour of care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Value of air medical service in trauma patient care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86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06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45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86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60006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8"/>
          <a:stretch/>
        </p:blipFill>
        <p:spPr>
          <a:xfrm>
            <a:off x="0" y="657072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428640" y="647388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edsoe et al.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ramedic Care: Principles &amp; Practice, Volume 4: Trauma Emergencies, 3rd. Ed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by Pearson Education, Inc. Upper Saddle River, NJ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media/4trauma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dic Ca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&amp; Practic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Emer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ection of data to identify the existence, significance, and characteristics of a disease or diseas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5400000">
            <a:off x="2575440" y="471960"/>
            <a:ext cx="49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nalysis examines the various factors that impact the development, course, and consequences of a diseas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d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ree-by-three matrix that describes n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event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event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the h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00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viro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ti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or modifies programs to reduce both the incidence and the seriousness of tra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r highwa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 with better braking systems, crumple zones, and passive restrai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that encourage drivers to use their seatbelts, to not drink and drive, and to drive defens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of placing an intervention into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ing traffic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speed limits in hazardo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uilding highways to be s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safer a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changes in driver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to improve our EM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by repeating the processes of surveil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benefit or ineffectiveness of an intervention o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continue to search out risk factors, develop and implement interventions, and evaluate our systems’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surgical intervention to repair hemorrhage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572920"/>
            <a:ext cx="787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uma system is predicated on the principle that serious trauma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gical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-threatening injuries account for less than 10 percent of all trauma pati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care for trauma patients can drastically reduce trauma mortality and morb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auma and Trauma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8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odel for a trauma system includes three levels of trauma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2670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Traum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of surgical and medical subspeci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teaching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Traum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surgical and medical subspecialties available 24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Traum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ED with the majority of surgical and medical subspecialties available 24/7 (on ca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remote areas, there is provision for an additional level of trauma patient desti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ously injured trauma patients may be taken for stabilization and care before trans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 of a trauma system should be flexible in order to meet the needs of the region it ser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baric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60316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Triag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 appropriate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Injury Analysis (MO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nd forces that cause 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inerti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Suspicion (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ion of injury to a body region, organ, or structure based on M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 and head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reassessment and 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8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lde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urvivability from incident to surgery is 1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num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 time limited to 1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vs.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patients trans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21200" y="487692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© Bell Helicopter Textron, Inc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76920" y="2554200"/>
            <a:ext cx="41148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to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uma triage criteria are designed to help you with transport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riteria are designed for the “over-triage” of trauma pat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plying trauma triage criteria, it is best to err on the side of preca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9880" indent="-389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ur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ycle safe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arm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afety seat classes and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d Trauma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trieval system for trauma pati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62720" y="2516040"/>
            <a:ext cx="3352680" cy="2513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70760" y="5099040"/>
            <a:ext cx="28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Austin County, Texas EMS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79132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view a video on trau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4320" y="1278000"/>
            <a:ext cx="6087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I or 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system performance and attempt to improve and provide better pati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lls to determine if standard of care was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nd complet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is a physical injury or wound caused by external force or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killer of persons under 44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,000 death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xpensive medical problem in terms of lost wages, initial care, rehabilitation, and lifelong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is typically divided into two major catego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y caused by an object breaking the skin and entering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y caused by the collision of an object with the body in which the object does not enter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/life-threatening problems occur in less than 10% of all trauma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your assessment it is essential that you determine the difference between a trauma patient with serious, life-threatening conditions and one who is less seriously inju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trauma triage criteria will aid you in making this determi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514240"/>
            <a:ext cx="789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way Safety Act of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development of 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 was categorized as a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can often be prev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c health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risk analysis, intervention development, implementation, and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08:22Z</dcterms:created>
  <dc:creator>James Ramsey</dc:creator>
  <dc:description/>
  <dc:language>en-US</dc:language>
  <cp:lastModifiedBy>Faye Gemmellaro</cp:lastModifiedBy>
  <cp:lastPrinted>2001-05-18T13:43:03Z</cp:lastPrinted>
  <dcterms:modified xsi:type="dcterms:W3CDTF">2008-08-14T14:28:10Z</dcterms:modified>
  <cp:revision>15</cp:revision>
  <dc:subject>The History</dc:subject>
  <dc:title>Paramedic Care: Principles  &amp; Practice   Volume 4 Trauma Emergencies</dc:title>
</cp:coreProperties>
</file>