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2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sto MT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sto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sto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sto M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sto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sto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sto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97F6-D1D4-4403-929E-1CF360DC38C5}" type="slidenum">
              <a:rPr b="0" lang="en-US" sz="1200" spc="-1" strike="noStrike">
                <a:solidFill>
                  <a:srgbClr val="000000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120" rIns="8712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sto MT"/>
              </a:rPr>
              <a:t>Refer to the American College of Surgeons “Gold Book” for exact designations and criteria.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sto MT"/>
              </a:rPr>
              <a:t>Level III </a:t>
            </a:r>
            <a:r>
              <a:rPr b="0" lang="en-US" sz="1200" spc="-1" strike="noStrike">
                <a:solidFill>
                  <a:srgbClr val="000000"/>
                </a:solidFill>
                <a:latin typeface="Calisto MT"/>
                <a:ea typeface="Arial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Calisto MT"/>
              </a:rPr>
              <a:t> The ACS requires that surgical specialists be available to be called in within one hour from trauma team activation.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120" rIns="8712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sto MT"/>
              </a:rPr>
              <a:t>Neurocenters – Spinal surgeon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sto MT"/>
              </a:rPr>
              <a:t>Burn Centers – Plastic surgery available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120" rIns="87120" tIns="43560" bIns="435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sto MT"/>
              </a:rPr>
              <a:t>Prevalence and significance of trauma.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sto MT"/>
              </a:rPr>
              <a:t>Components of trauma system.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sto MT"/>
              </a:rPr>
              <a:t>Characteristics of community, area, and regional trauma centers.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sto MT"/>
              </a:rPr>
              <a:t>Trauma triage criteria.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sto MT"/>
              </a:rPr>
              <a:t>Golden hour of care.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sto MT"/>
              </a:rPr>
              <a:t>Value of air medical service in trauma patient care.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886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206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745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886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" cy="6858000"/>
          </a:xfrm>
          <a:prstGeom prst="rect">
            <a:avLst/>
          </a:prstGeom>
          <a:solidFill>
            <a:srgbClr val="600060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2826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8"/>
          <a:stretch/>
        </p:blipFill>
        <p:spPr>
          <a:xfrm>
            <a:off x="0" y="6570720"/>
            <a:ext cx="2057400" cy="2318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428640" y="6473880"/>
            <a:ext cx="5715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edsoe et al.,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aramedic Care: Principles &amp; Practice, Volume 4: Trauma Emergencies, 3rd. Ed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9 by Pearson Education, Inc. Upper Saddle River, NJ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media/4trauma.htm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edic Car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les &amp; Practice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lume 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uma Emerge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veil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llection of data to identify the existence, significance, and characteristics of a disease or diseas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demi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 rot="5400000">
            <a:off x="2575440" y="471960"/>
            <a:ext cx="49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analysis examines the various factors that impact the development, course, and consequences of a diseas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ddon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hree-by-three matrix that describes nin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282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-event el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282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 el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282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-event el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282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stics of the ho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282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g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282600">
              <a:lnSpc>
                <a:spcPct val="90000"/>
              </a:lnSpc>
              <a:spcBef>
                <a:spcPts val="400"/>
              </a:spcBef>
              <a:buSzPct val="10279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nviron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venti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s or modifies programs to reduce both the incidence and the seriousness of trau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r highway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s with better braking systems, crumple zones, and passive restrain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that encourage drivers to use their seatbelts, to not drink and drive, and to drive defensive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 of placing an intervention into pract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ing traffic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ing speed limits in hazardous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building highways to be s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safer a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ing changes in driver behavi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ty edu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ing to improve our EMS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mplished by repeating the processes of surveill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dentify the benefit or ineffectiveness of an intervention or progr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must continue to search out risk factors, develop and implement interventions, and evaluate our systems’ perform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5905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auma Car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auma Car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to sur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ediate surgical intervention to repair hemorrhage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2572920"/>
            <a:ext cx="787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uma Center Desig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uma Center Desig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auma system is predicated on the principle that serious trauma i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rgical dise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-threatening injuries account for less than 10 percent of all trauma pati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gical care for trauma patients can drastically reduce trauma mortality and morbid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5905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apter 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rauma and Trauma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uma Center Desig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84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urrent model for a trauma system includes three levels of trauma cen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426708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uma Center Desig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 Trauma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ypes of surgical and medical subspecial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and teaching comm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Trauma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ity of surgical and medical subspecialties available 24/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Trauma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ized ED with the majority of surgical and medical subspecialties available 24/7 (on cal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uma Center Desig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ome remote areas, there is provision for an additional level of trauma patient destin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282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iously injured trauma patients may be taken for stabilization and care before transpor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sign of a trauma system should be flexible in order to meet the needs of the region it ser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uma Center Desig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ty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ro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n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diatric Tra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baric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ur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2603160"/>
            <a:ext cx="786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Role as a Paramed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Role as a Paramed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uma Triag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est appropriate fac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sm of Injury Analysis (MO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 and forces that cause tra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inertial fo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 of Suspicion (I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cipation of injury to a body region, organ, or structure based on M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ck and head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t reassessment and tr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Role as a Paramed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84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lde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survivability from incident to surgery is 1 h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inum 10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282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ene time limited to 1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282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d vs.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282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of patients trans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21200" y="4876920"/>
            <a:ext cx="221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© Bell Helicopter Textron, Inc.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4876920" y="2554200"/>
            <a:ext cx="41148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Role as a Paramed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cision to Trans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uma triage criteria are designed to help you with transport deci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28260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criteria are designed for the “over-triage” of trauma pati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pplying trauma triage criteria, it is best to err on the side of precau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Role as a Paramed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89880" indent="-3898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ury Pre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30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cycle safety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30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arm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30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t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30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safety seat classes and che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880" indent="-3898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and Trauma Reg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30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etrieval system for trauma patien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562720" y="2516040"/>
            <a:ext cx="3352680" cy="25131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170760" y="5099040"/>
            <a:ext cx="282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Austin County, Texas EMS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Role as a Paramed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5791320"/>
            <a:ext cx="71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ick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o view a video on traum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84320" y="1278000"/>
            <a:ext cx="608796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u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uma as a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auma Car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uma Center Desig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Role as a Paramed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Role as a Paramed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I or Q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the system performance and attempt to improve and provide better patient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lls to determine if standard of care was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and complete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u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uma as a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auma Car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uma Center Desig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Role as a Paramed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5905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uma is a physical injury or wound caused by external force or viole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ing killer of persons under 44 in the United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0,000 deaths an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expensive medical problem in terms of lost wages, initial care, rehabilitation, and lifelong mainte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uma is typically divided into two major categor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et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28260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jury caused by an object breaking the skin and entering the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28260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jury caused by the collision of an object with the body in which the object does not enter the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ous/life-threatening problems occur in less than 10% of all trauma pati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your assessment it is essential that you determine the difference between a trauma patient with serious, life-threatening conditions and one who is less seriously injur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 of trauma triage criteria will aid you in making this determin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2514240"/>
            <a:ext cx="789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uma as a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uma as a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way Safety Act of 19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d to development of 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uma was categorized as a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uma can often be preven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ublic health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illance, risk analysis, intervention development, implementation, and eval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6:08:22Z</dcterms:created>
  <dc:creator>James Ramsey</dc:creator>
  <dc:description/>
  <dc:language>en-US</dc:language>
  <cp:lastModifiedBy>Faye Gemmellaro</cp:lastModifiedBy>
  <cp:lastPrinted>2001-05-18T13:43:03Z</cp:lastPrinted>
  <dcterms:modified xsi:type="dcterms:W3CDTF">2008-08-14T14:28:10Z</dcterms:modified>
  <cp:revision>15</cp:revision>
  <dc:subject>The History</dc:subject>
  <dc:title>Paramedic Care: Principles  &amp; Practice   Volume 4 Trauma Emergencies</dc:title>
</cp:coreProperties>
</file>